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671A-4FA2-4C4F-BCEA-1D57B84CB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1D48-BDB7-43A8-BF7E-2C9C4C5E0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45D7-025F-4C22-8172-83080B59E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40D2-D8FC-4AF8-825C-E39462066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6AB8E-F145-48AF-BB77-2F2A58C75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C8C10-E339-4259-BAD7-E9D1C31B5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EAB41-2027-417A-9C3C-ACBA405E1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BBEAE-D768-43E6-A7D4-714B8F669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86488-46F3-422B-96ED-88E4BD8FF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B0865-E5CC-470B-8400-0B65BB0B4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23945-0CAB-46D2-ABC0-6E5B1415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E843-2640-43DD-8AF8-4524A0144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3A485-C12D-4B47-9D8E-0D50EC75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7557D-79A6-4B30-A54D-BE8BF610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63CDA-25CB-4F21-A1BD-860E0C9C4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D0462-B8A5-44CB-B2F8-EAF873E0C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B425C-F93F-4DCC-ACF4-AFABD6698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E729-F317-485E-84DA-D184C791D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5E9F-7800-4203-93AC-9A9686F30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E4C0-8D23-4F0C-A6A9-2BFCE76B9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3724-0C4D-4B9B-9D89-0BBC00333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0190-BF0B-4484-AF26-D6DCA309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509E-1DB5-4E48-A265-00FCF277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734D-842D-463B-ABBD-60B65B13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直接连接符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等腰三角形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87640" y="2925000"/>
            <a:ext cx="6857640" cy="17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000000"/>
                </a:solidFill>
                <a:latin typeface="Bookman Old Style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00800" y="6355080"/>
            <a:ext cx="2285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98720" y="6355080"/>
            <a:ext cx="347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216080" y="635508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ACA044C9-C44A-484E-A736-ED9958C72542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矩形 20"/>
          <p:cNvSpPr/>
          <p:nvPr/>
        </p:nvSpPr>
        <p:spPr>
          <a:xfrm>
            <a:off x="905040" y="2565000"/>
            <a:ext cx="7314840" cy="2160000"/>
          </a:xfrm>
          <a:prstGeom prst="rect">
            <a:avLst/>
          </a:prstGeom>
          <a:noFill/>
          <a:ln cap="rnd" w="6350">
            <a:solidFill>
              <a:srgbClr val="727ca3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8" name="矩形 32"/>
          <p:cNvSpPr/>
          <p:nvPr/>
        </p:nvSpPr>
        <p:spPr>
          <a:xfrm>
            <a:off x="914400" y="4797000"/>
            <a:ext cx="7314840" cy="936360"/>
          </a:xfrm>
          <a:prstGeom prst="rect">
            <a:avLst/>
          </a:prstGeom>
          <a:noFill/>
          <a:ln cap="rnd" w="6350">
            <a:solidFill>
              <a:srgbClr val="9fb8c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" name="矩形 21"/>
          <p:cNvSpPr/>
          <p:nvPr/>
        </p:nvSpPr>
        <p:spPr>
          <a:xfrm>
            <a:off x="899640" y="2565000"/>
            <a:ext cx="215640" cy="2143800"/>
          </a:xfrm>
          <a:prstGeom prst="rect">
            <a:avLst/>
          </a:prstGeom>
          <a:solidFill>
            <a:schemeClr val="accent1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" name="矩形 31"/>
          <p:cNvSpPr/>
          <p:nvPr/>
        </p:nvSpPr>
        <p:spPr>
          <a:xfrm>
            <a:off x="914400" y="4797000"/>
            <a:ext cx="200880" cy="936360"/>
          </a:xfrm>
          <a:prstGeom prst="rect">
            <a:avLst/>
          </a:prstGeom>
          <a:solidFill>
            <a:schemeClr val="accent2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直接连接符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直接连接符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等腰三角形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464653"/>
                </a:solidFill>
                <a:latin typeface="Bookman Old Style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19F13FF0-CBA1-408F-96BD-EC4F777D3E1D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zh-CN" sz="2600" spc="-1" strike="noStrike">
                <a:solidFill>
                  <a:srgbClr val="000000"/>
                </a:solidFill>
                <a:latin typeface="Gill Sans MT"/>
              </a:rPr>
              <a:t>单击此处编辑母版文本样式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zh-CN" sz="2300" spc="-1" strike="noStrike">
                <a:solidFill>
                  <a:srgbClr val="464653"/>
                </a:solidFill>
                <a:latin typeface="Gill Sans MT"/>
              </a:rPr>
              <a:t>第二级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zh-CN" sz="2000" spc="-1" strike="noStrike">
                <a:solidFill>
                  <a:srgbClr val="000000"/>
                </a:solidFill>
                <a:latin typeface="Gill Sans MT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zh-CN" sz="1800" spc="-1" strike="noStrike">
                <a:solidFill>
                  <a:srgbClr val="000000"/>
                </a:solidFill>
                <a:latin typeface="Gill Sans MT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zh-CN" sz="1600" spc="-1" strike="noStrike">
                <a:solidFill>
                  <a:srgbClr val="000000"/>
                </a:solidFill>
                <a:latin typeface="Gill Sans MT"/>
              </a:rPr>
              <a:t>第五级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9640" y="2781000"/>
            <a:ext cx="678564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Physical Design of FabScalar Generated Cor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219320" y="4941000"/>
            <a:ext cx="6857640" cy="7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1000"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EE6052 Class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Wei Zh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hanging GDSII Laye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539640" y="1340640"/>
            <a:ext cx="3180960" cy="4704840"/>
          </a:xfrm>
          <a:prstGeom prst="rect">
            <a:avLst/>
          </a:prstGeom>
          <a:ln w="9525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2"/>
          <a:stretch/>
        </p:blipFill>
        <p:spPr>
          <a:xfrm>
            <a:off x="4068000" y="1340640"/>
            <a:ext cx="4733640" cy="4695480"/>
          </a:xfrm>
          <a:prstGeom prst="rect">
            <a:avLst/>
          </a:prstGeom>
          <a:ln w="9525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3A1FA-3176-46E5-8B07-0A03991F894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Things To Do Nex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dapt memories to the 90nm technology and import them to the Milkyway library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oceed with the physical desig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459C2-CC33-461C-A3BF-3005B93BDD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abScalar Toolse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ynthes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hysical design using IC Compiler – Problems and solution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ngs to do nex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8C7F4-BEC6-48A3-B7D5-452BDA2F6A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abScalar Toolse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abGen: This tool generates synthesizable RTL of a superscalar core based on user-specified parameters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* Frontend superscalar width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* Backend superscalar width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* Pipeline depths of canonical pipeline stage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* Issue queue siz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abMem: This tool estimates read/write delays, read/write energies, and area of user-specified multi-ported RAMs/CAMs. It can also generate layouts of desired RAMs/CAM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219D9-1D3D-408D-B90C-4BB74287719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ynthesi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3000"/>
          </a:bodyPr>
          <a:p>
            <a:pPr marL="245880" indent="-245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ebGen-generated RTL is synthesizabl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5880" indent="-245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efore starting synthes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245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Comment-out the verification components to remove unsynthesizable verilog needed for simulation only: VPIs (the verilog/C++ co-simulation environment) and performance counter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45880" indent="-245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emory handl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245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Use FabMem to generate custom designs of these critical memory structures, including full layouts, SPICE netlists, and LEF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245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During synthesis, remove the behavioral modules of the memory structures and constrain their input-port and output-port timing paths based on timing numbers from SPICE simulation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245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For place-and-route, use the LEFs to represent the memory structures.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7CC0E-9CDD-4031-B792-A749C4183BC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100" spc="-1" strike="noStrike">
                <a:solidFill>
                  <a:srgbClr val="464653"/>
                </a:solidFill>
                <a:latin typeface="Bookman Old Style"/>
              </a:rPr>
              <a:t>Physical Design – Problems Encountered</a:t>
            </a: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marL="251640" indent="-2516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CC reports errors when importing netlist generated from synthesi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1640" indent="-2516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rror message examples from ICC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03640" indent="-2516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Error: Can not create instance master 'SRAM_4R8W' in FRAM view. (MWDC-001)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03640" indent="-2516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Error: Can not create instance master 'CAM_4R4W' in FRAM view. (MWDC-001)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51640" indent="-2516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arning message examples from synthes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03640" indent="-2516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Warning: Unable to resolve reference 'SRAM_4R8W' in 'InstructionBuffer'. (LINK-5)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03640" indent="-2516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Warning: Unable to resolve reference 'CAM_4R4W' in 'IssueQueue'. (LINK-5)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51640" indent="-2516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ause of the error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03640" indent="-2516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No corresponding memory cells in the Milkyway library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14516-F50A-44CA-8C50-C02CBF20D27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hysical Design – Problem Solu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6000"/>
          </a:bodyPr>
          <a:p>
            <a:pPr marL="244800" indent="-2448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olution 1 – Find memory instances from existing designs – OpenSPARC, ChipTop, Leon, and memories from SAED_EDK90nm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89960" indent="-24480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The memory instances from these existing designs do not match the memories used in FabScalar cores, which are mostly multi-ported memorie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44800" indent="-2448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olution 2 – Use memory blocks generated from the FabMem tool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89960" indent="-24480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The FabMem tool uses the FreePDK 45nm library which does not match the 90nm technology library used in ICC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489960" indent="-24480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t is very difficult to change the FreePDK 45nm library to 90nm technology library in FabMem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44800" indent="-2448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olution 3 – Change to the FreePDK 45nm library for the physical desig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89960" indent="-24480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ynthesis could be done using FreePDK. But the FreePDK 45nm library could not be utilized in ICC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033FE-12F5-47ED-87CF-D3D35E78B1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hysical Design – Problem Solu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olution 4 – Adapt the memory blocks generated from the FabMem tool to the 90nm technology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The FabMem tool could generate layouts of memories, from which we can get the GDSII file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To adapt these layouts to the 90nm technology, we need to modify the GDSII files to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1005840" indent="-4572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Bookman Old Style"/>
              <a:buAutoNum type="arabicPeriod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ouble the size of each physical component in the layout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005840" indent="-4572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Bookman Old Style"/>
              <a:buAutoNum type="arabicPeriod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p each layer in the FreePDK library to these layers in the 90nm technology library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31520" indent="-45720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mport these memory blocks to the Milkyway Library using the Milkyway Environment tool and the new GDSII memory file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45762-F89F-4DE1-BF80-FC9EF95D4D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ilkyway Environm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Milkyway Environment is a standalone tool for preparing physical libraries from the layout data provided by an outside sourc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1043640" y="2565000"/>
            <a:ext cx="7056360" cy="37058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6D000-C64E-459C-9F8F-4864ABAB2D3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61000"/>
          </a:bodyPr>
          <a:p>
            <a:pPr indent="0">
              <a:lnSpc>
                <a:spcPct val="100000"/>
              </a:lnSpc>
              <a:buNone/>
            </a:pP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Library Preparation Flow in the Milkyway Environm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979640" y="1196640"/>
            <a:ext cx="5045400" cy="5112360"/>
          </a:xfrm>
          <a:prstGeom prst="rect">
            <a:avLst/>
          </a:prstGeom>
          <a:ln w="9525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8EF8C-95E1-45C2-B508-9EDAA3E05F7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质朴">
  <a:themeElements>
    <a:clrScheme name="质朴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质朴">
  <a:themeElements>
    <a:clrScheme name="质朴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rigin</Template>
  <TotalTime>764</TotalTime>
  <Application>LibreOffice/7.4.7.2$Linux_X86_64 LibreOffice_project/40$Build-2</Application>
  <AppVersion>15.0000</AppVersion>
  <Words>546</Words>
  <Paragraphs>7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3T03:52:13Z</dcterms:created>
  <dc:creator>RabbitWayne</dc:creator>
  <dc:description/>
  <dc:language>en-US</dc:language>
  <cp:lastModifiedBy>RabbitWayne</cp:lastModifiedBy>
  <dcterms:modified xsi:type="dcterms:W3CDTF">2012-04-17T14:54:23Z</dcterms:modified>
  <cp:revision>24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1</vt:r8>
  </property>
</Properties>
</file>